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9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254-52FF-4AED-A4F5-A8AAC164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9A6-F2E1-437B-8A7A-0BFAC57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570-54A3-49BA-9653-9AB262B3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20D-20E9-40C5-A831-3DAD7935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A03-809F-467A-BE00-98EC39D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80B-B83B-40CE-AB48-E349B36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5A6-4E7C-4483-AEBB-F30FDDFF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D01-24D1-4B67-AD38-8265977F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C14-E0CF-4DEF-8E7F-C1FE58A6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E0E-BF54-45E6-80E7-ECBA483B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CCF-FF16-4EFF-A84E-E959BF3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216-8F44-413A-9624-E69D6C9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51D-0794-403F-ABE7-E4A34411A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5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81000"/>
            <a:ext cx="71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JABB ELJÁRÁSOK AZ IZOMTÖMEG ÉS AZ IZOMFUNKCIÓK FEJLESZTÉSÉ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2684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or Péter, Tihanyi József, Borka Pé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6200" y="3619440"/>
            <a:ext cx="6121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melweis Egyetem Testnevelési és Sporttudományi K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vábhegyi Gyermekgyógyintéz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-edzés program COPD-sek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206064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lső két héten 2 napon 2x majd 3x12 gyakorlat, 7 izomcsoporttal, 2 perces, nyújtással kitöltött pihenőkkel, 15-18 RM intenzitá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846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3. – 7. héten 2x -4x 10 gyakorlat (10 RM), heti 3x120 perc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500364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8. – 12.  héten ehhez excentrikus gyakorlatok is társuln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4842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right 2003, Boch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8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9236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izom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268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max. izometriásnál nagyobb (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upramaximális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 izomfeszülés – nagyobb stressz, de nagyobb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zésinger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637000"/>
            <a:ext cx="72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ugyanakkora koncentrikus mechanikai teljesítményhez képest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5-7x kisebb oxigén igény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lasztikus „rugók” a kötő- és izomszövet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653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tós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láz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z első 2-3 edzés utá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koronária betege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einer etc. Eur. J. Appl. Physiol. 2004. 91, 57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776680"/>
            <a:ext cx="727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ti 3 x fél óra, azonos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igényű (V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0 %-a: 97, illetve 338 Wattal) koncentrikus és excentrikus kerékpározás. Izomtömeg +  3 %, erő csak az excentrikusan edzőkön nőtt, 5-11 %-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2360" y="260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z excentrikus edzés COPD-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531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oyackers etc. Int. J. Rehab. Res., 2003. 26, 4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776680"/>
            <a:ext cx="727416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úlyos COPD-sek (FEVI 38-45 %, Watt max-nál 90 % alatt az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az excentrikus kerékpározást a Watt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max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60-val tudták végezni, Borg 3 és 90 % feletti S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vel, O</a:t>
            </a:r>
            <a:r>
              <a:rPr b="1" lang="hu-HU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ótlás nélkül. A kardiocirc. fittség és a gázcsere mutatók oly mértékben fejlődtek, mint a koncentrikus biciklizés 10 hete al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800"/>
                            </p:stCondLst>
                            <p:childTnLst>
                              <p:par>
                                <p:cTn id="4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á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1268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 végtag vagy izomcsoport vib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2319480"/>
            <a:ext cx="2879640" cy="221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04840" y="4508640"/>
            <a:ext cx="2890800" cy="2109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30920" y="12682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ész test vib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1689120" cy="238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659640" y="2924280"/>
            <a:ext cx="22096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400"/>
                            </p:stCondLst>
                            <p:childTnLst>
                              <p:par>
                                <p:cTn id="5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400"/>
                            </p:stCondLst>
                            <p:childTnLst>
                              <p:par>
                                <p:cTn id="52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40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12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312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3200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ó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13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plitú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900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692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őtar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6920" y="3716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ét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1700280"/>
            <a:ext cx="1368360" cy="43020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1341360"/>
            <a:ext cx="1368360" cy="1152720"/>
          </a:xfrm>
          <a:custGeom>
            <a:avLst/>
            <a:gdLst/>
            <a:ahLst/>
            <a:rect l="l" t="t" r="r" b="b"/>
            <a:pathLst>
              <a:path w="2132" h="1057">
                <a:moveTo>
                  <a:pt x="0" y="506"/>
                </a:moveTo>
                <a:cubicBezTo>
                  <a:pt x="26" y="381"/>
                  <a:pt x="53" y="256"/>
                  <a:pt x="91" y="188"/>
                </a:cubicBezTo>
                <a:cubicBezTo>
                  <a:pt x="129" y="120"/>
                  <a:pt x="189" y="90"/>
                  <a:pt x="227" y="98"/>
                </a:cubicBezTo>
                <a:cubicBezTo>
                  <a:pt x="265" y="106"/>
                  <a:pt x="288" y="166"/>
                  <a:pt x="318" y="234"/>
                </a:cubicBezTo>
                <a:cubicBezTo>
                  <a:pt x="348" y="302"/>
                  <a:pt x="363" y="400"/>
                  <a:pt x="408" y="506"/>
                </a:cubicBezTo>
                <a:cubicBezTo>
                  <a:pt x="453" y="612"/>
                  <a:pt x="545" y="794"/>
                  <a:pt x="590" y="869"/>
                </a:cubicBezTo>
                <a:cubicBezTo>
                  <a:pt x="635" y="944"/>
                  <a:pt x="635" y="1057"/>
                  <a:pt x="680" y="959"/>
                </a:cubicBezTo>
                <a:cubicBezTo>
                  <a:pt x="725" y="861"/>
                  <a:pt x="801" y="423"/>
                  <a:pt x="862" y="279"/>
                </a:cubicBezTo>
                <a:cubicBezTo>
                  <a:pt x="923" y="135"/>
                  <a:pt x="960" y="0"/>
                  <a:pt x="1043" y="98"/>
                </a:cubicBezTo>
                <a:cubicBezTo>
                  <a:pt x="1126" y="196"/>
                  <a:pt x="1278" y="725"/>
                  <a:pt x="1361" y="869"/>
                </a:cubicBezTo>
                <a:cubicBezTo>
                  <a:pt x="1444" y="1013"/>
                  <a:pt x="1474" y="1050"/>
                  <a:pt x="1542" y="959"/>
                </a:cubicBezTo>
                <a:cubicBezTo>
                  <a:pt x="1610" y="868"/>
                  <a:pt x="1708" y="468"/>
                  <a:pt x="1769" y="324"/>
                </a:cubicBezTo>
                <a:cubicBezTo>
                  <a:pt x="1830" y="180"/>
                  <a:pt x="1845" y="45"/>
                  <a:pt x="1905" y="98"/>
                </a:cubicBezTo>
                <a:cubicBezTo>
                  <a:pt x="1965" y="151"/>
                  <a:pt x="2094" y="551"/>
                  <a:pt x="2132" y="64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105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10461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76720" y="2674800"/>
            <a:ext cx="1440000" cy="828720"/>
            <a:chOff x="5076720" y="2674800"/>
            <a:chExt cx="1440000" cy="828720"/>
          </a:xfrm>
        </p:grpSpPr>
        <p:sp>
          <p:nvSpPr>
            <p:cNvPr id="116" name=""/>
            <p:cNvSpPr/>
            <p:nvPr/>
          </p:nvSpPr>
          <p:spPr>
            <a:xfrm>
              <a:off x="5076720" y="3073320"/>
              <a:ext cx="1368360" cy="430200"/>
            </a:xfrm>
            <a:custGeom>
              <a:avLst/>
              <a:gdLst/>
              <a:ahLst/>
              <a:rect l="l" t="t" r="r" b="b"/>
              <a:pathLst>
                <a:path w="2132" h="1057">
                  <a:moveTo>
                    <a:pt x="0" y="506"/>
                  </a:moveTo>
                  <a:cubicBezTo>
                    <a:pt x="26" y="381"/>
                    <a:pt x="53" y="256"/>
                    <a:pt x="91" y="188"/>
                  </a:cubicBezTo>
                  <a:cubicBezTo>
                    <a:pt x="129" y="120"/>
                    <a:pt x="189" y="90"/>
                    <a:pt x="227" y="98"/>
                  </a:cubicBezTo>
                  <a:cubicBezTo>
                    <a:pt x="265" y="106"/>
                    <a:pt x="288" y="166"/>
                    <a:pt x="318" y="234"/>
                  </a:cubicBezTo>
                  <a:cubicBezTo>
                    <a:pt x="348" y="302"/>
                    <a:pt x="363" y="400"/>
                    <a:pt x="408" y="506"/>
                  </a:cubicBezTo>
                  <a:cubicBezTo>
                    <a:pt x="453" y="612"/>
                    <a:pt x="545" y="794"/>
                    <a:pt x="590" y="869"/>
                  </a:cubicBezTo>
                  <a:cubicBezTo>
                    <a:pt x="635" y="944"/>
                    <a:pt x="635" y="1057"/>
                    <a:pt x="680" y="959"/>
                  </a:cubicBezTo>
                  <a:cubicBezTo>
                    <a:pt x="725" y="861"/>
                    <a:pt x="801" y="423"/>
                    <a:pt x="862" y="279"/>
                  </a:cubicBezTo>
                  <a:cubicBezTo>
                    <a:pt x="923" y="135"/>
                    <a:pt x="960" y="0"/>
                    <a:pt x="1043" y="98"/>
                  </a:cubicBezTo>
                  <a:cubicBezTo>
                    <a:pt x="1126" y="196"/>
                    <a:pt x="1278" y="725"/>
                    <a:pt x="1361" y="869"/>
                  </a:cubicBezTo>
                  <a:cubicBezTo>
                    <a:pt x="1444" y="1013"/>
                    <a:pt x="1474" y="1050"/>
                    <a:pt x="1542" y="959"/>
                  </a:cubicBezTo>
                  <a:cubicBezTo>
                    <a:pt x="1610" y="868"/>
                    <a:pt x="1708" y="468"/>
                    <a:pt x="1769" y="324"/>
                  </a:cubicBezTo>
                  <a:cubicBezTo>
                    <a:pt x="1830" y="180"/>
                    <a:pt x="1845" y="45"/>
                    <a:pt x="1905" y="98"/>
                  </a:cubicBezTo>
                  <a:cubicBezTo>
                    <a:pt x="1965" y="151"/>
                    <a:pt x="2094" y="551"/>
                    <a:pt x="2132" y="64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164360" y="2674800"/>
            <a:ext cx="1728720" cy="986400"/>
            <a:chOff x="7164360" y="2674800"/>
            <a:chExt cx="1728720" cy="986400"/>
          </a:xfrm>
        </p:grpSpPr>
        <p:grpSp>
          <p:nvGrpSpPr>
            <p:cNvPr id="119" name=""/>
            <p:cNvGrpSpPr/>
            <p:nvPr/>
          </p:nvGrpSpPr>
          <p:grpSpPr>
            <a:xfrm>
              <a:off x="7164360" y="3144960"/>
              <a:ext cx="1728720" cy="516240"/>
              <a:chOff x="7164360" y="3144960"/>
              <a:chExt cx="1728720" cy="516240"/>
            </a:xfrm>
          </p:grpSpPr>
          <p:sp>
            <p:nvSpPr>
              <p:cNvPr id="120" name=""/>
              <p:cNvSpPr/>
              <p:nvPr/>
            </p:nvSpPr>
            <p:spPr>
              <a:xfrm>
                <a:off x="7164360" y="314496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1002200">
                <a:off x="7740360" y="3214080"/>
                <a:ext cx="57636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17080" y="3214800"/>
                <a:ext cx="576000" cy="430200"/>
              </a:xfrm>
              <a:custGeom>
                <a:avLst/>
                <a:gdLst/>
                <a:ahLst/>
                <a:rect l="l" t="t" r="r" b="b"/>
                <a:pathLst>
                  <a:path w="2132" h="1057">
                    <a:moveTo>
                      <a:pt x="0" y="506"/>
                    </a:moveTo>
                    <a:cubicBezTo>
                      <a:pt x="26" y="381"/>
                      <a:pt x="53" y="256"/>
                      <a:pt x="91" y="188"/>
                    </a:cubicBezTo>
                    <a:cubicBezTo>
                      <a:pt x="129" y="120"/>
                      <a:pt x="189" y="90"/>
                      <a:pt x="227" y="98"/>
                    </a:cubicBezTo>
                    <a:cubicBezTo>
                      <a:pt x="265" y="106"/>
                      <a:pt x="288" y="166"/>
                      <a:pt x="318" y="234"/>
                    </a:cubicBezTo>
                    <a:cubicBezTo>
                      <a:pt x="348" y="302"/>
                      <a:pt x="363" y="400"/>
                      <a:pt x="408" y="506"/>
                    </a:cubicBezTo>
                    <a:cubicBezTo>
                      <a:pt x="453" y="612"/>
                      <a:pt x="545" y="794"/>
                      <a:pt x="590" y="869"/>
                    </a:cubicBezTo>
                    <a:cubicBezTo>
                      <a:pt x="635" y="944"/>
                      <a:pt x="635" y="1057"/>
                      <a:pt x="680" y="959"/>
                    </a:cubicBezTo>
                    <a:cubicBezTo>
                      <a:pt x="725" y="861"/>
                      <a:pt x="801" y="423"/>
                      <a:pt x="862" y="279"/>
                    </a:cubicBezTo>
                    <a:cubicBezTo>
                      <a:pt x="923" y="135"/>
                      <a:pt x="960" y="0"/>
                      <a:pt x="1043" y="98"/>
                    </a:cubicBezTo>
                    <a:cubicBezTo>
                      <a:pt x="1126" y="196"/>
                      <a:pt x="1278" y="725"/>
                      <a:pt x="1361" y="869"/>
                    </a:cubicBezTo>
                    <a:cubicBezTo>
                      <a:pt x="1444" y="1013"/>
                      <a:pt x="1474" y="1050"/>
                      <a:pt x="1542" y="959"/>
                    </a:cubicBezTo>
                    <a:cubicBezTo>
                      <a:pt x="1610" y="868"/>
                      <a:pt x="1708" y="468"/>
                      <a:pt x="1769" y="324"/>
                    </a:cubicBezTo>
                    <a:cubicBezTo>
                      <a:pt x="1830" y="180"/>
                      <a:pt x="1845" y="45"/>
                      <a:pt x="1905" y="98"/>
                    </a:cubicBezTo>
                    <a:cubicBezTo>
                      <a:pt x="1965" y="151"/>
                      <a:pt x="2094" y="551"/>
                      <a:pt x="2132" y="64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524720" y="2674800"/>
              <a:ext cx="1008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40 H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016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74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32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90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4840" y="4680000"/>
            <a:ext cx="38124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30640" y="4908600"/>
            <a:ext cx="0" cy="914400"/>
          </a:xfrm>
          <a:prstGeom prst="line">
            <a:avLst/>
          </a:prstGeom>
          <a:ln cap="sq" w="76320">
            <a:solidFill>
              <a:srgbClr val="99cc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4840" y="573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5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213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71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929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78760" y="4680000"/>
            <a:ext cx="38088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0240" y="495792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716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hen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424512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30-6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660"/>
                            </p:stCondLst>
                            <p:childTnLst>
                              <p:par>
                                <p:cTn id="5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660"/>
                            </p:stCondLst>
                            <p:childTnLst>
                              <p:par>
                                <p:cTn id="5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6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86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966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1660"/>
                            </p:stCondLst>
                            <p:childTnLst>
                              <p:par>
                                <p:cTn id="5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100"/>
                            </p:stCondLst>
                            <p:childTnLst>
                              <p:par>
                                <p:cTn id="6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600"/>
                            </p:stCondLst>
                            <p:childTnLst>
                              <p:par>
                                <p:cTn id="6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100"/>
                            </p:stCondLst>
                            <p:childTnLst>
                              <p:par>
                                <p:cTn id="6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6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4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4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9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4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2665440" cy="178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622160" cy="244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27280" y="1039680"/>
            <a:ext cx="1689120" cy="2389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859280" y="981000"/>
            <a:ext cx="1722600" cy="244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3200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STHELY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948360" y="981000"/>
            <a:ext cx="1625760" cy="244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187280" y="393372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9704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könyökhajlítók maximális izometriás ereje 49,8 %-al növekedett három hetes vibráció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4Hz – 3mm)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tására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1994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5415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könyökhajlítók átlag és csúcsteljesítménye szintén növekedett (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rin et al. (1999)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680" y="1125360"/>
            <a:ext cx="7942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A kimerűlésig tartó vibráció alatt, lassú térhajlítással kombinálva) az oxigén felhasználás 50 %-os volt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Arial"/>
              </a:rPr>
              <a:t>2max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 –hoz viszonyítva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ttwegger et al. 2000)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781360"/>
            <a:ext cx="7664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Kerschan-Schindl et al. (200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 kimutatta, hogy a vibráció alatt megnövekedett a véráramlás sebessége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5 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13 cm.s-</a:t>
            </a:r>
            <a:r>
              <a:rPr b="1" lang="en-GB" sz="24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hu-HU" sz="2400" spc="-1" strike="noStrike">
                <a:solidFill>
                  <a:srgbClr val="ffff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27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t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5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92360" y="981000"/>
            <a:ext cx="611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SZÖNÖM MEGTISZTELŐ FIGYELMÜKE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80000" y="620640"/>
            <a:ext cx="1223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981000"/>
            <a:ext cx="71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ll-e az erőt/izomtömeget fejleszteni a szív-, vagy tüdőbeteg emberb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845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zom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ömege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élettani keresztmetszete)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rányos az erőve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13856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izom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cukor (és zsír) anyagcsere szerve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zulin rezisztenia, obesek és diab2 betegek izmainak lipidanyagcsere rendellenesége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80360" y="2924280"/>
            <a:ext cx="1409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4762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kérdés nem az, hogy kell-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98100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9777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4810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hogyan 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27664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„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agyományos”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hab. edzés az aerob funkciók, mozgékonyság ... javítására: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folyamato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yaloglás, kerékpározá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13856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nek módosítása az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terval tréning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erifériás okú alacsony MET, köpetürítés szükségessége, oxigén kiegészítés, változatosság, jobb eltűrhetőség, nagyobb intenzitás rövid idő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2247840"/>
            <a:ext cx="2016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198900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ometriás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yakorlatok (CP betegeken ali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013200"/>
            <a:ext cx="2952720" cy="207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3036960"/>
            <a:ext cx="2592360" cy="207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084720" y="3068640"/>
            <a:ext cx="2519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9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8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68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868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13372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kon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rövidül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28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264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989000"/>
            <a:ext cx="785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namikus, excentrikus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sebességgel megnyúlik az aktív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13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2881440" cy="213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5805360"/>
            <a:ext cx="230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kinetikus (nyúj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664000" cy="2131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5080" y="580536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tóniás (nyújtás-rövidül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410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4102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64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87280" y="40464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z erő növelésének módszer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atásspecifitás el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989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bráció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különböző frekvenciával ingerelt iz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2779560"/>
            <a:ext cx="1587240" cy="3673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300560" y="2852640"/>
            <a:ext cx="2209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zometrik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84464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ximális erő (1 Repetition Maximum: 1RM) kifejthető, préselés pulzus és vérnyomás válasza, az adott izomhosszon vastagít – 2 MET alatti betegek ülve-fekve gyakorolhatják, 7 MET felettiek korlátok nélkü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69840" y="442260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ább 60 %-os (1RM-hez viszonyítva) izomfeszülés hoz erő és keresztmetszeti hatá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92360" y="620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zisztencia ed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1484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 „mindenkinek ajánlott” program hetente kétszer javall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6226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gy izomcsoportokkal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bfeszítő és hajlító, karfeszítő és hajlító, has, törzs – derék- hátra-oldalt, hátfeszítő, delta, pectoral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67280"/>
            <a:ext cx="727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-4x8-12 ismétlés (8-12 RM intenzitással)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öztük 2 perc szünet stretchinggel, az egyes izomcsoportokat váltakozóan edz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36256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aját test, társ, súlyzók, gépek ellen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6:01:53Z</dcterms:created>
  <dc:creator>Tihanyi József</dc:creator>
  <dc:description/>
  <dc:language>en-US</dc:language>
  <cp:lastModifiedBy>Tihanyi József</cp:lastModifiedBy>
  <dcterms:modified xsi:type="dcterms:W3CDTF">2004-10-14T09:10:13Z</dcterms:modified>
  <cp:revision>6</cp:revision>
  <dc:subject/>
  <dc:title>1. dia</dc:title>
</cp:coreProperties>
</file>